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89896"/>
        <c:axId val="82951515"/>
      </c:barChart>
      <c:catAx>
        <c:axId val="86489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51515"/>
        <c:crosses val="autoZero"/>
        <c:auto val="1"/>
        <c:lblAlgn val="ctr"/>
        <c:lblOffset val="100"/>
        <c:noMultiLvlLbl val="0"/>
      </c:catAx>
      <c:valAx>
        <c:axId val="82951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89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314-25BB-4DC5-A26A-4F4140F9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5B8-6273-4B93-994F-25E9CFD0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6C0-1193-4069-BA2C-5870494D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BD0-161D-46FC-98D4-4A124E21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3E7-E169-4E54-9C27-95F815C5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EC8-D3F4-4FE2-BBE1-3DAC2184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FAB-C84C-48CD-8D63-0DEF838E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345-F3F5-4165-8C3A-AB9EA874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134-B423-41AC-8815-8BA42461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473-288C-4481-A62E-96816E1C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909-61A1-4A4B-A4DA-E74F9A1F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EAC-671F-419F-9FFC-904DFA3D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BBD5C-7F99-4F6C-AC1A-6BE7E0C4EF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