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07245"/>
        <c:axId val="36843688"/>
      </c:barChart>
      <c:catAx>
        <c:axId val="79307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3688"/>
        <c:crosses val="autoZero"/>
        <c:auto val="1"/>
        <c:lblAlgn val="ctr"/>
        <c:lblOffset val="100"/>
        <c:noMultiLvlLbl val="0"/>
      </c:catAx>
      <c:valAx>
        <c:axId val="36843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7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EF6-8537-486E-A2D9-F2E9374D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78A-1BD0-45C7-BEBE-036672CA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57B-488F-4F3A-B984-2CD8AACF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D73-C700-4C2A-A505-46A029D1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C95-AE54-4728-8BAB-21CB42B2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C24-F066-4B7A-9FAA-490A9FF9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7D7-D848-4D2B-98C4-62BEF6A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CED-4C61-4696-B8DE-9CD1375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8A8-A234-4C46-A309-EE43072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66B-BA47-4393-B545-2DDD5E8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101-FD94-4937-A976-18EB664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33C-EFA0-4EA9-B328-0BA87DF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58C4E-A57A-4F3C-95BA-EBD5ED8CA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