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19840"/>
        <c:axId val="45917723"/>
      </c:barChart>
      <c:catAx>
        <c:axId val="57319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7723"/>
        <c:crosses val="autoZero"/>
        <c:auto val="1"/>
        <c:lblAlgn val="ctr"/>
        <c:lblOffset val="100"/>
        <c:noMultiLvlLbl val="0"/>
      </c:catAx>
      <c:valAx>
        <c:axId val="45917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19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097-4F12-4DB0-B5EC-4A06300F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B11-9BED-4DD9-965E-F7A584B6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7C7-5E07-4D7C-A54A-5CDE6FF5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6A2-C364-46BD-ABBE-7BB91471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927-069B-446C-AF9D-4734C4CD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065-703F-4631-B266-074A881A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68E-7799-4B1F-9DEA-9E7320D3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895-FFCA-4827-B997-3E130EC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438-AF17-487B-AA0F-8C33A98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064-38E0-4300-934A-D21553D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090-0A58-4693-BD8C-02089F9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A56-7587-4A81-9289-8248217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4A76-66F1-4DB3-B5BA-22E5DB0BBC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