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31837"/>
        <c:axId val="58294654"/>
      </c:barChart>
      <c:catAx>
        <c:axId val="31131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94654"/>
        <c:crosses val="autoZero"/>
        <c:auto val="1"/>
        <c:lblAlgn val="ctr"/>
        <c:lblOffset val="100"/>
        <c:noMultiLvlLbl val="0"/>
      </c:catAx>
      <c:valAx>
        <c:axId val="582946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31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1B1-FC1E-4991-8C43-4EE1CDEE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1B1-372C-4083-A931-1A5676FD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855-429B-45F5-A846-77819EFA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B11B-CC26-463E-B145-7F17AC14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A34-8A2A-4A9B-8A4F-F618CC34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9C8F-718E-4F56-BF0B-40930071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668-6AE5-4315-B434-5456E75B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150-23C1-48E9-833F-D3DA1821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D98-F4A6-4E5F-A041-6C7351C3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AEE7-840E-4C30-B058-9C009187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B267-61C0-4F56-BD82-8985962B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3C7A-BB35-473F-BC75-6D57CB91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C6BED-EB08-44CF-A864-47EC180303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