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07938"/>
        <c:axId val="82476800"/>
      </c:barChart>
      <c:catAx>
        <c:axId val="689079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76800"/>
        <c:crosses val="autoZero"/>
        <c:auto val="1"/>
        <c:lblAlgn val="ctr"/>
        <c:lblOffset val="100"/>
        <c:noMultiLvlLbl val="0"/>
      </c:catAx>
      <c:valAx>
        <c:axId val="82476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079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33D-A4BB-4081-8FD8-B942C8EB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268A-B40E-4729-81D4-DA7B593B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4309-3EA9-444B-8938-744B7569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F58-5A7D-460D-AD29-3F3CD21A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538-2E69-437D-9F3E-1E872D59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0F3F-DAB5-49CA-9652-5E2B1FF6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E222-BC29-47A2-99F4-4D5F1834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819-FF97-4AF0-A0D1-297C97D2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E30-F076-4432-A0F1-FD727FF3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E16E-8B36-4ABF-B12A-9534670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20A-25EB-417E-831F-31D76E4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DFD-FBA8-422F-9710-7E9E4835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40D53-497C-4A1A-AB3E-B492F040A4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