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588808"/>
        <c:axId val="97356478"/>
      </c:barChart>
      <c:catAx>
        <c:axId val="835888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356478"/>
        <c:crosses val="autoZero"/>
        <c:auto val="1"/>
        <c:lblAlgn val="ctr"/>
        <c:lblOffset val="100"/>
        <c:noMultiLvlLbl val="0"/>
      </c:catAx>
      <c:valAx>
        <c:axId val="973564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5888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7682-3CB5-4821-8514-EA8F67FD1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BC7C-DDE1-45DD-92F8-82949439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F21A-AE1C-47C3-8C82-123445BBE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C36B-1768-4F80-B24F-E9749A8E2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7D37-4B17-4D63-84D9-F009D291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031A-8303-4608-87D7-E4E28762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0026-CF3F-4A9A-9491-D334822C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ACB1-044E-4AED-AEB9-E87ECA5A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AEF6-8EEC-406F-9B27-51DA7ED5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0BC6-43DE-4004-9852-D7B3BED4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EBC4-5070-4B39-8630-2B598646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7347-9AE5-4679-B51B-45E25018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7FB46D-F8E9-4C33-A4E0-4B6686A49C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