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31537"/>
        <c:axId val="44132973"/>
      </c:barChart>
      <c:catAx>
        <c:axId val="63731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2973"/>
        <c:crosses val="autoZero"/>
        <c:auto val="1"/>
        <c:lblAlgn val="ctr"/>
        <c:lblOffset val="100"/>
        <c:noMultiLvlLbl val="0"/>
      </c:catAx>
      <c:valAx>
        <c:axId val="44132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1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619-8511-40C2-B257-45603FBD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DDC-B082-4DAA-9BBE-BB9D4C39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548-F6DD-4A14-9E50-9D9399D6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4E3-16BC-448D-B926-081D8D71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679-C909-4B1F-8C05-EDB5667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121-CDE7-42C6-8D53-3ACB0559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079-324F-489E-9736-D24A7C6F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2BB-D66A-4075-8F0E-3F0AB2D8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C7A-783E-4312-89FA-7E0EC61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4F5-7324-49FC-BDC0-C621591E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D80-4F41-4D7D-88BD-774C94D8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EE7-155E-455D-85C1-AEDEA31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0C3A4-B8E3-4D0D-811D-6372314203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