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64931"/>
        <c:axId val="58608201"/>
      </c:barChart>
      <c:catAx>
        <c:axId val="72664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08201"/>
        <c:crosses val="autoZero"/>
        <c:auto val="1"/>
        <c:lblAlgn val="ctr"/>
        <c:lblOffset val="100"/>
        <c:noMultiLvlLbl val="0"/>
      </c:catAx>
      <c:valAx>
        <c:axId val="58608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64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B98-BFDB-4A53-9A9A-183CBE91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BD5-6CA3-4073-B534-82F45ACF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10C-7F3A-4F8F-AA87-DD07B46A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5C4-DE98-4B7A-89A3-ED85A8E8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7F3-A1E3-408D-A675-626B4FEA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005-E04E-4CDC-AA9D-CC19C9E4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9B0-B085-44F6-BE27-444D6FE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E09-C15B-48EC-B068-8D8449B4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606-24F3-4462-96F9-CCDF429C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42A-A545-4DA7-9BB7-6C4933B4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A9A-B42E-4BC6-A13C-9F175E6A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2BE-FBEF-46FF-A733-86031455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404F0-329C-4706-8B8C-46152DF79A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