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282485"/>
        <c:axId val="9482559"/>
      </c:barChart>
      <c:catAx>
        <c:axId val="442824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2559"/>
        <c:crosses val="autoZero"/>
        <c:auto val="1"/>
        <c:lblAlgn val="ctr"/>
        <c:lblOffset val="100"/>
        <c:noMultiLvlLbl val="0"/>
      </c:catAx>
      <c:valAx>
        <c:axId val="9482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824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C8ED-184A-4A82-85B3-6400763E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FE9-5934-403D-B7E0-1FE066FE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31F0-591E-48BA-82ED-913B7906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ECAC-4C29-412B-B5CA-78492226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8841-58FB-4309-8792-0B21FBC9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289C-0B31-42C1-A3E0-49552707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5ACC-4DC0-4B8D-8B00-DEFB9CD6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ACCC-5C7F-4F64-A7A2-1E508B0D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86F8-31C5-4FBE-B7D2-7BED8ECD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02BA-2D24-4FC2-B5DE-E3284C32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1F34-253A-44CA-95FE-9D500A1B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0829-2BE6-496A-BF61-44D303C8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8964F-6D27-4D58-994B-A56D65141A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