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03201"/>
        <c:axId val="66676818"/>
      </c:barChart>
      <c:catAx>
        <c:axId val="80503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76818"/>
        <c:crosses val="autoZero"/>
        <c:auto val="1"/>
        <c:lblAlgn val="ctr"/>
        <c:lblOffset val="100"/>
        <c:noMultiLvlLbl val="0"/>
      </c:catAx>
      <c:valAx>
        <c:axId val="66676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03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859-742C-4BB7-8543-EF884B01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C66-7C13-4E23-9EE5-9D860F45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36B-029D-409F-A0EA-875CD39C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48D-585A-40ED-A66B-3C79494F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D48-2FF3-4DEA-9A69-79DCECAC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54A-9CD5-4420-99A9-98F0997C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476-08BB-45A8-9E2E-977DD732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87E-B826-4239-87A7-84E66CE6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F2D-DB03-4D58-B47B-191402C9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11A-6C69-40D4-834E-FD3EC1F1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958-8C27-4002-9B6A-F084A165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37A-580C-446C-AD21-34FABAF8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1768E-236B-4CA4-AEB4-1F32BF1B6D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