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52787"/>
        <c:axId val="86741981"/>
      </c:barChart>
      <c:catAx>
        <c:axId val="71652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41981"/>
        <c:crosses val="autoZero"/>
        <c:auto val="1"/>
        <c:lblAlgn val="ctr"/>
        <c:lblOffset val="100"/>
        <c:noMultiLvlLbl val="0"/>
      </c:catAx>
      <c:valAx>
        <c:axId val="86741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52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49A-B546-4C92-8F60-23A9A3C2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0B0-C878-465E-8E17-F99D8BAE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BBC-3994-4143-8FC1-C840C43A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567-0424-4E9D-8624-E682177D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658-1810-4B10-835E-B45FE1E0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167-E2D6-42EE-B7C8-DD55394D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C3D-23F3-456C-8786-52726631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707-96D6-4A9D-A008-B8CB3765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A6F-77F5-4BDC-95F1-FA5327E4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758-2973-4FCB-BC5A-299E032E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225-8CD3-4F73-B96C-724D2585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11B-445D-4F18-BF5D-B31BDEA3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E9096-5168-4F8F-98CB-5AE77718A5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