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56590"/>
        <c:axId val="61925306"/>
      </c:barChart>
      <c:catAx>
        <c:axId val="840565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25306"/>
        <c:crosses val="autoZero"/>
        <c:auto val="1"/>
        <c:lblAlgn val="ctr"/>
        <c:lblOffset val="100"/>
        <c:noMultiLvlLbl val="0"/>
      </c:catAx>
      <c:valAx>
        <c:axId val="619253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565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72DD-8332-4039-81E3-B9F2CB562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E2C-CE0B-4213-9494-72F2CD0D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2865-B84F-4088-8145-B67D93F8A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901-0F60-45EB-8241-161C78C8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E71B-F90D-4984-BA6C-867BF38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297-9DDA-458A-8A9F-F3A9E497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E85-3C34-4172-8763-DE3AD080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645-F018-4390-910E-0F82C038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A68-CFDD-4BD9-A005-17A429C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DB1-7872-4490-BB74-EE19279C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282-133D-4ED6-B8FB-B427F7BF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D4D-2C71-4D62-9851-5132435F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D2DEE-4843-43D9-BC55-B4C7929CA6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