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98532"/>
        <c:axId val="21496003"/>
      </c:barChart>
      <c:catAx>
        <c:axId val="90198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6003"/>
        <c:crosses val="autoZero"/>
        <c:auto val="1"/>
        <c:lblAlgn val="ctr"/>
        <c:lblOffset val="100"/>
        <c:noMultiLvlLbl val="0"/>
      </c:catAx>
      <c:valAx>
        <c:axId val="21496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8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D97-526D-4CBF-8B72-684F5E77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8B2-90C8-4C7C-BAB0-F8B109B9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347-325B-4A00-82EF-2A864C7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A2F-9390-43C9-8FC5-BFC58759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D1E-7878-460C-9805-863B9EAE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0E9-2990-4175-99C2-91AA1F5C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89A-C358-41DA-932B-C7D5567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269-D1E9-4D9D-B15D-208D5021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A87-DBDA-43E3-8EF7-ED9E44C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572-F2F4-4952-89D7-5EBA7BE4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8A3-6E5D-4E99-B83D-686E91D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BDE-402F-4262-A929-10B083C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C31F7-9355-49BB-A28F-E16A5FAA1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