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73948"/>
        <c:axId val="35187504"/>
      </c:barChart>
      <c:catAx>
        <c:axId val="50073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7504"/>
        <c:crosses val="autoZero"/>
        <c:auto val="1"/>
        <c:lblAlgn val="ctr"/>
        <c:lblOffset val="100"/>
        <c:noMultiLvlLbl val="0"/>
      </c:catAx>
      <c:valAx>
        <c:axId val="35187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73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973-CAD1-4D64-83CF-D50AE26F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102-5803-4FCA-85B3-3A36841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FC6-AFE1-4BA6-A6C4-82237B33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321-6A9F-4824-9EE2-F88BDA70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388-8629-46DC-866A-0F87B3B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690-FBD8-41BF-A918-5EE38E3D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EAF-216C-49D5-8CB1-A11A5760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024-8EA7-4B30-A722-AD8EA849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6E1-F62F-4377-93EB-D7C41B6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DFB-6D74-465D-8880-33A2FDD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73B-0B2B-4261-87EF-6F9C4B1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64B-E231-48C3-81F5-F617F76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41BB-C573-4506-AC10-338B786C1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