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69790"/>
        <c:axId val="30007099"/>
      </c:barChart>
      <c:catAx>
        <c:axId val="74069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07099"/>
        <c:crosses val="autoZero"/>
        <c:auto val="1"/>
        <c:lblAlgn val="ctr"/>
        <c:lblOffset val="100"/>
        <c:noMultiLvlLbl val="0"/>
      </c:catAx>
      <c:valAx>
        <c:axId val="30007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69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F49-B3E3-47FB-B18B-203519D8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1B9-6AE0-412D-BD50-B6008002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A92-ED69-424E-82E3-6F54FE4D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2AA-6A1F-4F45-A982-B8FE8B46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E23-B6F8-4C2E-BEE8-A974CD12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73B-CB54-4FCB-8747-B9B2C610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2268-19E4-48AB-816C-FF751F79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133-F97F-4BEA-83D5-DB746B82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25F-FF2D-4E07-B6B0-5E3F2408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872-70AE-48E7-B312-74A27B81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BD4-068B-4BA1-B375-324E9E55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F74-D705-4A96-A33C-640E5C8B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DC62E-2693-4316-8EB9-9AA274B46F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