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30385"/>
        <c:axId val="59979117"/>
      </c:barChart>
      <c:catAx>
        <c:axId val="69930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79117"/>
        <c:crosses val="autoZero"/>
        <c:auto val="1"/>
        <c:lblAlgn val="ctr"/>
        <c:lblOffset val="100"/>
        <c:noMultiLvlLbl val="0"/>
      </c:catAx>
      <c:valAx>
        <c:axId val="59979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30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C2C-F55D-4FCF-93D9-A4542AD2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132-5B11-4DB8-A84A-16872138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44B-C7DD-486C-BF3F-D31F24DE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38B9-4B53-4A56-B49C-A164A8EE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B5E-9DC1-404B-961F-E090B685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C8A-7A70-44EA-BF9A-89595FD3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FE7-4C56-4425-977C-CAD93176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18CB-F2A8-4387-B3C8-80709AC8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8C4-E312-4A57-9604-1F7D35B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37CF-C058-4926-8603-87F17C79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BC1B-F7D4-4C4C-AD1D-3F46C4BD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8CC-D111-4403-9382-F7CAAE3A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7AACA-681A-4945-8312-8268D4F34A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