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01820"/>
        <c:axId val="61135640"/>
      </c:barChart>
      <c:catAx>
        <c:axId val="71301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35640"/>
        <c:crosses val="autoZero"/>
        <c:auto val="1"/>
        <c:lblAlgn val="ctr"/>
        <c:lblOffset val="100"/>
        <c:noMultiLvlLbl val="0"/>
      </c:catAx>
      <c:valAx>
        <c:axId val="61135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01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451-6831-42B8-A390-F24F8499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049-1298-48AE-B3E8-F5948449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B2E-CFE7-4AE7-A1EA-BCDD02FF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22E-5D93-44D4-B54D-572A5B11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6A4-51FB-498A-B3A7-AC252DB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969-6B3D-4B77-8FAD-98F978A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1EA-59A2-403A-B98B-3C60880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717-C0CA-4D2E-9191-CBA66196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87C-C275-422F-A571-F4F2E78F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6B9-1631-40C3-B926-A229700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06C-2930-4E02-823E-645C8AB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BFA-0E8A-4271-88F0-4B4972B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95667-DDBA-4F69-ACAC-C25589B60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