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70072"/>
        <c:axId val="93110516"/>
      </c:barChart>
      <c:catAx>
        <c:axId val="94870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0516"/>
        <c:crosses val="autoZero"/>
        <c:auto val="1"/>
        <c:lblAlgn val="ctr"/>
        <c:lblOffset val="100"/>
        <c:noMultiLvlLbl val="0"/>
      </c:catAx>
      <c:valAx>
        <c:axId val="93110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70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EB3-F960-4F72-A7F5-0EA8A203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9BD-6825-4B10-A4E7-F8A24C0E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A9F-B503-40FE-BA8D-53AECE2B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FAB-E126-443C-ABAA-122B68C1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C65-D54F-443D-803F-36D3511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350-42BF-4E50-8705-E887950E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93C-DD82-4403-87A8-690B168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7E6-123A-421A-B94C-10FBD9A0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5F1-85F8-4E08-B3D9-AD44B4B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2BE-9AB1-43C9-B3E0-CEF0865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067-C93E-4DD5-AABD-B2448B9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4EE-ECF1-44A9-AF35-05F9508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1556A-00B9-484C-A121-918FE3343A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