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85462"/>
        <c:axId val="14788386"/>
      </c:barChart>
      <c:catAx>
        <c:axId val="18385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8386"/>
        <c:crosses val="autoZero"/>
        <c:auto val="1"/>
        <c:lblAlgn val="ctr"/>
        <c:lblOffset val="100"/>
        <c:noMultiLvlLbl val="0"/>
      </c:catAx>
      <c:valAx>
        <c:axId val="1478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85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11C-E8C6-4909-8CC1-03CBD6C3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4BC-2FEA-482E-A63B-B132922F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63A4-096C-4080-B4C2-8B725F16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BA3-E98F-4686-B416-2F871E7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F47-4CA9-426F-BAC7-9B39D621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487-2DC0-426F-83AF-D98DDA48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4CD-B92E-413E-B352-80D95A16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CAA-7892-4231-8D10-C75229BE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0A7-F7F1-497D-8260-9E3E3F95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8FC-F96A-4670-AFB2-45085D89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F8B-FD5B-4C2D-A76B-6029B4AB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2C7-FC4F-4FB4-9256-3124D206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759E-DCBD-4130-BC78-8D2B2D2D45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