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41106"/>
        <c:axId val="55131438"/>
      </c:barChart>
      <c:catAx>
        <c:axId val="54541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31438"/>
        <c:crosses val="autoZero"/>
        <c:auto val="1"/>
        <c:lblAlgn val="ctr"/>
        <c:lblOffset val="100"/>
        <c:noMultiLvlLbl val="0"/>
      </c:catAx>
      <c:valAx>
        <c:axId val="55131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41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3F4-DE9D-4DD9-A437-CAF8BEE4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B08-C336-4450-BA32-E884F274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47C-7477-41DA-8961-2D2D13D2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665-33DC-42A7-89E1-43BBAF98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140-F134-4667-876D-D7349D8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00E-69A1-4143-974A-5A94278E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457-B488-409D-91DF-F395B237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F93-4866-458C-AB44-8F89BA02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161-1F46-4778-812B-4453C40B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55E-C2C1-4709-805D-94ADF71A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43F-3615-4A74-8000-C7FA600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72F-FA71-4B16-97FA-7C1E44A2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209B1-4F96-4054-A2AD-8416926D2A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