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8394"/>
        <c:axId val="5341757"/>
      </c:barChart>
      <c:catAx>
        <c:axId val="7848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757"/>
        <c:crosses val="autoZero"/>
        <c:auto val="1"/>
        <c:lblAlgn val="ctr"/>
        <c:lblOffset val="100"/>
        <c:noMultiLvlLbl val="0"/>
      </c:catAx>
      <c:valAx>
        <c:axId val="5341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8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5AA-6E2C-4F4C-BB1A-DC2BABC6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7FA-0C5F-4C85-9A3C-65103E4E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9DA-6C02-4C0E-9464-5A776677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ED0-4AB2-4508-9464-31F06A35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C56-6A4C-423C-8D6A-8B56A39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AFA-C9E3-4C45-AED2-B6D66B1E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C12-192F-4069-B1B8-7D2F8E0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744-E836-41EF-BBA3-F5D0D419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FA4-9ACD-4CD9-9BA6-58EAD56A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EE1-D2CD-4652-8897-B2FD08A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3F2-E112-479D-944A-8C4825E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F69-2DD0-421C-8B07-A7FC461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74C65-C5E8-4443-802C-B10152EBC5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