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49966"/>
        <c:axId val="49556355"/>
      </c:barChart>
      <c:catAx>
        <c:axId val="84499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556355"/>
        <c:crosses val="autoZero"/>
        <c:auto val="1"/>
        <c:lblAlgn val="ctr"/>
        <c:lblOffset val="100"/>
        <c:noMultiLvlLbl val="0"/>
      </c:catAx>
      <c:valAx>
        <c:axId val="495563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499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56FB-0718-47C8-9FC7-F2A414149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0432-11AA-44CA-B8C8-2B525A49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2470-C7CF-4773-B862-0A432D807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8516-8B7E-4B2F-B7A8-764E0D7F4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B3AA-08D1-4E86-BD3B-7614798E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7371-B5AB-4C9D-9AEF-35482E67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3BAE-D413-4E2B-8EF3-30A0469E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947C-2AAE-4582-BC22-22E61F11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E995-25CB-4758-A8F2-2BCDB1C3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1621-DCD0-4C24-B8C2-104659C9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BAEE-AA7D-4AB6-9A19-1B9A06C9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ACF3-D253-4897-99DA-2A0F33DD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52E3CE-9438-4A4D-8B88-E392DC9CC4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