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91936"/>
        <c:axId val="43975692"/>
      </c:barChart>
      <c:catAx>
        <c:axId val="60691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75692"/>
        <c:crosses val="autoZero"/>
        <c:auto val="1"/>
        <c:lblAlgn val="ctr"/>
        <c:lblOffset val="100"/>
        <c:noMultiLvlLbl val="0"/>
      </c:catAx>
      <c:valAx>
        <c:axId val="43975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91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5B8F-1E3F-4D27-A799-C4FB641E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2FE-148A-4616-A216-79CE2C70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285-1DDB-45D3-AD86-59DB9685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109F-0FB4-4BD7-A995-A0BA7AAD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50BB-C2DC-4C59-B7D4-7C61591C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C6F-A888-4498-ACE4-364291ED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1F24-940B-4CB7-B7BE-6D827BAF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6BE5-8E77-4E2D-9D7C-123FEF7B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3C8-CE8E-49CB-9542-1FC94698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38F-C28C-4CC0-BAB7-53DD320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C6A5-30F7-40C2-93A3-1780699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7F1-81E1-4E2F-97E3-EF099FCD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B6C81-B05C-4B42-9DA3-5423147919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