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363842"/>
        <c:axId val="52555688"/>
      </c:barChart>
      <c:catAx>
        <c:axId val="333638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55688"/>
        <c:crosses val="autoZero"/>
        <c:auto val="1"/>
        <c:lblAlgn val="ctr"/>
        <c:lblOffset val="100"/>
        <c:noMultiLvlLbl val="0"/>
      </c:catAx>
      <c:valAx>
        <c:axId val="525556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638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7AE5-D27F-439B-9938-605120EF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63F6-DFDD-4C5B-A8CD-F77D04EA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26A2-45C2-4854-B3E6-4D57EB835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F726-BE45-4771-ADE8-B0541E6B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460B-B2BF-42A5-822C-1E3E7A4E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29E0-5A94-4244-8FF0-E93557A2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15D7-CC2C-4C8E-BAB2-EC22F86C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FC6A-9B4B-4D82-9913-7CE2CC76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4D3A-6C4D-410C-8174-B1939367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DDF6-0763-4CD5-B18E-B4DC65A1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A038-888D-407E-B510-08A1F95A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0879-E778-4797-8E4F-EA348D32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4E729-5517-48A3-B8FE-3B2D5DE47D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