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10176"/>
        <c:axId val="83514343"/>
      </c:barChart>
      <c:catAx>
        <c:axId val="81910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14343"/>
        <c:crosses val="autoZero"/>
        <c:auto val="1"/>
        <c:lblAlgn val="ctr"/>
        <c:lblOffset val="100"/>
        <c:noMultiLvlLbl val="0"/>
      </c:catAx>
      <c:valAx>
        <c:axId val="83514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10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23F-9088-478E-AD24-2AF55890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92B-4998-4B79-9EEE-88325B65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C06-D041-4968-8F1F-E20E5506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D75-B032-4A0B-8B42-72099F87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B9A-9189-442C-A5BE-B717C1B9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CB0-9732-4674-BB79-B957E100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93A-FAC4-4893-8657-F6693A9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3D8-8C76-4B5E-ACE1-142E4525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9FF-D2DD-429D-8EF7-9BC2CB32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A22-FCBE-44FB-A148-05B225BA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B01-D8C8-48B0-A6A3-D2F6822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862-6815-41CB-A2ED-BB07B743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11A84-23A2-4375-B5FE-A119606E35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