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9922"/>
        <c:axId val="79251629"/>
      </c:barChart>
      <c:catAx>
        <c:axId val="669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51629"/>
        <c:crosses val="autoZero"/>
        <c:auto val="1"/>
        <c:lblAlgn val="ctr"/>
        <c:lblOffset val="100"/>
        <c:noMultiLvlLbl val="0"/>
      </c:catAx>
      <c:valAx>
        <c:axId val="792516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5EF9-1C82-4CB7-A7D2-D309681D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1A8-D9A5-481B-B333-38338EA6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4D8C-C9DB-42A4-A41A-6FE9F14F5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75D-5ED2-49C8-B855-DEE3EFDA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7AF8-6FAA-4815-AD6B-8F012597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10F-0304-489B-9125-E2B4B52A0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1BE8-8E05-4487-BB67-F8C0D000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607-8B81-4940-BCDC-D160644FD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DCC1-2B09-4B28-ABAA-DF2A8C7C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C9EF-3F69-4F6A-A549-D7A43874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DBBC-25E7-400B-BD7A-D89A81F89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4D70-329A-4452-B203-6D617E2D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683BBF-4B39-4022-9EB3-DBA061D167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