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50342"/>
        <c:axId val="53449156"/>
      </c:barChart>
      <c:catAx>
        <c:axId val="16750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49156"/>
        <c:crosses val="autoZero"/>
        <c:auto val="1"/>
        <c:lblAlgn val="ctr"/>
        <c:lblOffset val="100"/>
        <c:noMultiLvlLbl val="0"/>
      </c:catAx>
      <c:valAx>
        <c:axId val="53449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50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FA0-636D-42D4-BD95-516A6C36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8C3-5CE7-4506-8831-A402F52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B75-CE88-4A3B-BA1E-6717C20D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BA0-82BF-4828-B766-DD3D2AA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33C-DA51-476B-AC22-D4620FBF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564-92AE-42B6-A7CE-4038563F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8D7-8249-4047-810A-FD4C7A1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34F-2A1F-40BC-BDC1-3C3B50A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328-2F66-452B-9628-DFA1712F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73C-87D7-4B3F-B0D0-4EBDF31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CDE-3BFA-4C1E-B412-C56D7F9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E21-6BE9-4AF9-8CA2-CB47FEE4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DA031-0C67-4768-B016-5AF9326F9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