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035914"/>
        <c:axId val="37886539"/>
      </c:barChart>
      <c:catAx>
        <c:axId val="100359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86539"/>
        <c:crosses val="autoZero"/>
        <c:auto val="1"/>
        <c:lblAlgn val="ctr"/>
        <c:lblOffset val="100"/>
        <c:noMultiLvlLbl val="0"/>
      </c:catAx>
      <c:valAx>
        <c:axId val="378865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359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B042-0EE9-468F-BAEB-E7C394ADA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AF48-7D12-4CFC-BD67-975B0D25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FB65-DC33-445B-8E39-BADC1773C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3693-FE30-43F7-A7DF-E860E474F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B1C2-3078-4386-A2B7-EDB19906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3745-56A3-441B-A6F4-BE0327A6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6DB1-EA05-419D-9CC3-88D565E1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7FF4-483C-4400-BFC1-886535AA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62CA-BA6C-4C28-92E2-55E28568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AEC2-62D9-436B-AD12-E9801977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9667-7CF7-4F92-A879-1C4D0860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9E6C-9F79-45D4-8247-166AA927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2C99F-983C-45E6-B1DD-BC2BE769DC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