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31569"/>
        <c:axId val="91447766"/>
      </c:barChart>
      <c:catAx>
        <c:axId val="337315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47766"/>
        <c:crosses val="autoZero"/>
        <c:auto val="1"/>
        <c:lblAlgn val="ctr"/>
        <c:lblOffset val="100"/>
        <c:noMultiLvlLbl val="0"/>
      </c:catAx>
      <c:valAx>
        <c:axId val="91447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315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B52-5A11-4A24-9549-543CFE9C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187-7C77-464B-9F0A-FB0AEE48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F40-74C0-499D-9DAA-3B53989E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266-BCBB-4E1B-BE4F-7FE80F1A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659-616D-494A-9DC1-E861C9BA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716-FFE1-48F1-86DF-A7CEC2BC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93A-82F1-45D1-A041-32844697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C74-1A99-4A55-BB9D-0C99CA63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761-3AE9-4FF7-B70F-4E3B2D82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E5B-CB55-4A3E-8850-23B80522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D2D-9BD3-45EC-8819-B23F0B4F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3F0B-D7C0-4AFE-A370-2EC5E6D3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43A50-01BC-417E-90FD-D3186A9B74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