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87502"/>
        <c:axId val="44695711"/>
      </c:barChart>
      <c:catAx>
        <c:axId val="92787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95711"/>
        <c:crosses val="autoZero"/>
        <c:auto val="1"/>
        <c:lblAlgn val="ctr"/>
        <c:lblOffset val="100"/>
        <c:noMultiLvlLbl val="0"/>
      </c:catAx>
      <c:valAx>
        <c:axId val="44695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7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229-ECDD-4A84-9FEC-C3812E0F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099-54B1-4DA4-A262-577BB013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DA6-0B4A-4837-BE8F-4F36B4C9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CEB-448A-4E41-B936-5D577C80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01D-6722-4D9E-B502-50904873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4FB-BFEC-4E9B-A517-27275CBE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DE7-2DA9-4671-87E4-0F95E56D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06C-3848-4B16-AA3D-359A1DAD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CA8-1801-4B90-9A40-D11F900F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BE8-C83B-4E87-A34D-E655C55B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413-004C-40B3-A2A1-5349E82F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EA1-D0F8-4922-9E33-0D47D23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54FE-AAD1-42D0-87F1-BACFEAE5DC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