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17564"/>
        <c:axId val="29363230"/>
      </c:barChart>
      <c:catAx>
        <c:axId val="93917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3230"/>
        <c:crosses val="autoZero"/>
        <c:auto val="1"/>
        <c:lblAlgn val="ctr"/>
        <c:lblOffset val="100"/>
        <c:noMultiLvlLbl val="0"/>
      </c:catAx>
      <c:valAx>
        <c:axId val="29363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17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271-2BA1-46AB-9431-6E5EE64C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DB1-72AF-40BB-AC73-C8C71DAA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80D-D964-4060-911C-E70999EA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F8A-6B2F-4A4C-B019-F4C1CE43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412-FB88-4FCB-9E58-5891470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CE4-7ECD-40DB-9691-3538239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330-2BEE-4E5B-B57C-0ACCFCB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AEA-17B9-4BD4-AA31-B9313E62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47A-67F9-44FC-8F5D-EE24A66D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C75-5566-4ABF-A8C7-DB5DA57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0DA-5DD5-4BB0-8781-7AEFE6D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8BA-8469-4F5A-B374-5841641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8B45E-7CAD-44D1-903D-EE324D2E8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