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98192"/>
        <c:axId val="79303220"/>
      </c:barChart>
      <c:catAx>
        <c:axId val="85498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3220"/>
        <c:crosses val="autoZero"/>
        <c:auto val="1"/>
        <c:lblAlgn val="ctr"/>
        <c:lblOffset val="100"/>
        <c:noMultiLvlLbl val="0"/>
      </c:catAx>
      <c:valAx>
        <c:axId val="79303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98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FD5-90CE-4228-8D35-9749D4B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8AF-4D21-4234-81FF-34397B0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29D-008E-4A83-BEBA-AAC8DA49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2B3-5C0B-41A9-8BC4-0AA993A9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D65-A59D-49F4-8C82-A789B6C2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8E0-B7AE-475F-AA11-27E17E2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354-ED7F-42C0-8563-9860769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C0D-15CA-4D32-9850-949FE4F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743-2B93-43CD-A0C1-35309F80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522-9F53-45B5-8FE2-4BD42D8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150-5715-4256-920E-43DAD5B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9DB-013D-4A7F-9BB1-DBE51EA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F5054-0692-4CD6-A14B-9962E0DDA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