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40657"/>
        <c:axId val="7634716"/>
      </c:barChart>
      <c:catAx>
        <c:axId val="87406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4716"/>
        <c:crosses val="autoZero"/>
        <c:auto val="1"/>
        <c:lblAlgn val="ctr"/>
        <c:lblOffset val="100"/>
        <c:noMultiLvlLbl val="0"/>
      </c:catAx>
      <c:valAx>
        <c:axId val="76347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06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0147-B850-42D4-B6B8-E1D45FC7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C92-D55C-46C8-A36A-12B01E0A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8054-03DE-4E4A-858C-E8C7D78A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A232-34B9-44E9-9695-039D10E4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23D-29A3-48AD-8289-DFCAAF97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4079-7FE7-4735-89E5-C5C36F30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95D4-E140-4150-9BBC-960E89EF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BD85-5FDD-48C2-815B-0EE903E4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F521-94F5-49FC-BC42-8B5DD79C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BD8B-F777-4619-9DF6-D732576B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A939-8810-4DDA-B1F3-C7399060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057F-4BE9-4627-A56F-CB9F0091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F43FE-5EE5-4A80-9DE5-1566657E0E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