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47456"/>
        <c:axId val="74797282"/>
      </c:barChart>
      <c:catAx>
        <c:axId val="79247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97282"/>
        <c:crosses val="autoZero"/>
        <c:auto val="1"/>
        <c:lblAlgn val="ctr"/>
        <c:lblOffset val="100"/>
        <c:noMultiLvlLbl val="0"/>
      </c:catAx>
      <c:valAx>
        <c:axId val="74797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7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E71-8AFC-430B-82BD-AC6EE48A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E03-0830-46E3-AC35-1961163E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581-2AA1-4849-9494-9A2B7CF3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C3F-6EEA-438C-98F4-2C4F7DE0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106-BCA7-461C-9311-DCF8AF0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EC0-D266-42A1-87B4-502CF4B4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D89-18D4-489B-B324-576C8E24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1FB-6982-4FD1-A1CC-E6A0DF0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4E8-8D98-4015-AA6D-A05FC139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700-AD18-4FF2-A61F-07555D9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6AA-6CDF-4EBD-9DEC-150EDE4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447-5368-4AE3-AF7C-BDA4F4F1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BAA48-40AF-4F1F-BC03-540EFF9450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