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05522"/>
        <c:axId val="29299857"/>
      </c:barChart>
      <c:catAx>
        <c:axId val="37305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99857"/>
        <c:crosses val="autoZero"/>
        <c:auto val="1"/>
        <c:lblAlgn val="ctr"/>
        <c:lblOffset val="100"/>
        <c:noMultiLvlLbl val="0"/>
      </c:catAx>
      <c:valAx>
        <c:axId val="29299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5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FFE-0F2A-41B9-916E-A7DA62A4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3D3-3669-48C0-BD68-948C4C7F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E5D-A8C7-4BF5-A8D8-8F856A76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2DE-E3AC-4664-8CEB-CB5D9B59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401-A2F0-47E2-97D3-7C29BCD8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1ED-C6CF-4A5F-84F4-A0C259C9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C89-5050-473E-8438-DD003015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181-C3BD-441C-B9F9-CA595473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F18-42CF-4B08-AA02-3E8D042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A8C-BD3D-4D3B-B7F0-53B829F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FE8-FAC9-4D25-902E-5010BD7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B8C-E99C-4CFF-A220-6E600C2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6214E-16A0-4CB6-83BE-209FED3BBB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