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58441"/>
        <c:axId val="99255382"/>
      </c:barChart>
      <c:catAx>
        <c:axId val="84858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5382"/>
        <c:crosses val="autoZero"/>
        <c:auto val="1"/>
        <c:lblAlgn val="ctr"/>
        <c:lblOffset val="100"/>
        <c:noMultiLvlLbl val="0"/>
      </c:catAx>
      <c:valAx>
        <c:axId val="99255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58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0DC-49CB-4BA6-AF72-712F0675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FA9-F03E-49C7-AF96-F09DACD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8EF-CD93-443F-9372-41B71B9E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759-88FA-4A6E-BD23-B50931F7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88B-896F-462E-BC28-D627FC65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979-0B36-4894-A099-90E7FF5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C01-7D6E-42BA-AB44-ED986C16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621-1DFF-4B01-98C1-0A53829E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1AA-E11C-487B-8EA1-414BD19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504-BBD6-42BD-8F8C-3B9B99C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F83-9C31-4E1D-82DF-3A9ED7BC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3A4-253A-4508-9CB5-0D6C6EF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C1456-7F00-4C2A-BEED-66C5CF574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