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63589"/>
        <c:axId val="68340930"/>
      </c:barChart>
      <c:catAx>
        <c:axId val="61263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0930"/>
        <c:crosses val="autoZero"/>
        <c:auto val="1"/>
        <c:lblAlgn val="ctr"/>
        <c:lblOffset val="100"/>
        <c:noMultiLvlLbl val="0"/>
      </c:catAx>
      <c:valAx>
        <c:axId val="68340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3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05-C9E9-458A-B4A1-FE7885E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E76-455C-44A6-AD6A-4352A08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2B8-0A77-4024-9D58-6ADD897A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B20-6DE4-457F-BD93-4E8574B4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D24-C289-4413-A5B3-4F48503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505-6BDF-40D3-93EB-19429BC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90F-4256-496B-9871-92929C7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F93-C887-479B-A70B-AF0FF1F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A6F-B2D8-4C24-AFCE-194CF5F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93C-D15F-4B50-AE97-68A5E53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C7B-80F1-47B8-BE4F-08FE599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374-BF7F-4081-98DC-D007CF0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0AF83-6270-43BC-82EA-0B4909169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