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6720"/>
        <c:axId val="78508147"/>
      </c:barChart>
      <c:catAx>
        <c:axId val="3616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8147"/>
        <c:crosses val="autoZero"/>
        <c:auto val="1"/>
        <c:lblAlgn val="ctr"/>
        <c:lblOffset val="100"/>
        <c:noMultiLvlLbl val="0"/>
      </c:catAx>
      <c:valAx>
        <c:axId val="78508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19F-F0EB-4C1B-833F-969AC04C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944-75DD-49E9-85BF-3A6F1D4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DC7-4A9D-42EB-9C44-EF049D2D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E42-671E-4FB0-A491-537E803B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BE6-41E6-4E31-8405-4BB33317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E14-53FE-49F1-ACF8-DCB749D0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5A6-3F06-4CA1-992F-B66EBA72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D56-ECD6-40CA-8532-CE80DA7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D09-2819-4825-AFB7-F17CBCD9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AAC-6E61-4B2A-AC83-769A46C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882-4CF7-420E-BE8D-B8055D38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0A4-E2BD-4248-A127-4D471AE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F0A84-9718-4D9C-BE45-4F9E2AF995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