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7165"/>
        <c:axId val="37053221"/>
      </c:barChart>
      <c:catAx>
        <c:axId val="67827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53221"/>
        <c:crosses val="autoZero"/>
        <c:auto val="1"/>
        <c:lblAlgn val="ctr"/>
        <c:lblOffset val="100"/>
        <c:noMultiLvlLbl val="0"/>
      </c:catAx>
      <c:valAx>
        <c:axId val="37053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7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D7C-3C07-4172-8814-D72165B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FBB-23C4-465C-B04C-0175DC85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688-24F6-4F4B-9711-36B820D3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82C-729B-424E-9E66-6654E876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DEA-035E-46B5-840D-C338CA8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756-174D-4C43-ACB3-CC492F80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0E0-8FF9-4D0A-9638-063C796F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CC4-6D86-47DE-AE6B-DE1EDC2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A98-3891-4D75-8346-B2E2F794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D54-E0A9-47C9-805F-5EEA059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F92-A7EB-4961-B716-5EC7EDCC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046-29D3-4491-AF6A-DF0BFE9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8FCB2-8846-42E1-A3DF-A324B70EB2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