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1680"/>
        <c:axId val="50003704"/>
      </c:barChart>
      <c:catAx>
        <c:axId val="63731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3704"/>
        <c:crosses val="autoZero"/>
        <c:auto val="1"/>
        <c:lblAlgn val="ctr"/>
        <c:lblOffset val="100"/>
        <c:noMultiLvlLbl val="0"/>
      </c:catAx>
      <c:valAx>
        <c:axId val="50003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1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FD3-AA6D-4ECD-80CF-FAD343C0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D75-0116-4574-A766-1E9AE29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E81-3942-41F7-AE95-9471D07A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8ED-B131-4D80-93FF-C811FD99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A01-BE34-40AF-817B-772F89B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DAB-0442-466E-8A1B-A9888E7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B93-59B0-4B57-8716-8EEA11E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61A-A388-4E87-8B51-FFC761F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DF1-32F6-45EF-8ED2-86EE9685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62A-0AF8-4D08-846A-93069E2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62A-FB9D-40B3-AB82-CCEF032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C10-62EC-4D6A-B5C4-19C8595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E9141-1F21-4FC4-834E-D251A075B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