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23928"/>
        <c:axId val="23239926"/>
      </c:barChart>
      <c:catAx>
        <c:axId val="78523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39926"/>
        <c:crosses val="autoZero"/>
        <c:auto val="1"/>
        <c:lblAlgn val="ctr"/>
        <c:lblOffset val="100"/>
        <c:noMultiLvlLbl val="0"/>
      </c:catAx>
      <c:valAx>
        <c:axId val="23239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23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AE7-4A1A-41D8-961B-3AB0766C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DDE-7EF0-4955-B120-76BBFE4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BAC-6331-4D80-8E73-9768931C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26F-4801-40EB-9521-7105F8BE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8CC-3435-44AD-9386-6178C832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C00-BB35-4580-BBEC-1434E3AE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229-DD6D-47D0-BD35-51AF1467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E1A-F414-47C1-8C3F-7186952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64E-3A6A-44B0-A579-7F26AB84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E0A-1CCF-4ED6-8FE4-E4080B3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095-F127-4DF4-863B-4414CE7C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B04-CA37-4854-B2CF-119CE54E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B3E61-9ED2-4E78-A66F-64A95AFB6E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