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23373"/>
        <c:axId val="14586471"/>
      </c:barChart>
      <c:catAx>
        <c:axId val="89923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86471"/>
        <c:crosses val="autoZero"/>
        <c:auto val="1"/>
        <c:lblAlgn val="ctr"/>
        <c:lblOffset val="100"/>
        <c:noMultiLvlLbl val="0"/>
      </c:catAx>
      <c:valAx>
        <c:axId val="145864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23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8423-EAAF-4C83-B54A-1E9BAA74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B40C-2CFA-4144-9767-224625E5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A942-9D28-4DAE-8AC0-B9760D58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6AF-27F7-4A93-9968-C8934C64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2AC4-ACC1-426D-84A0-7E13EE60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1EE4-E73E-4E92-B691-2DC27A3C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8583-2F3D-45DA-B3E6-1D8B5F16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8A53-DF23-4662-85C8-FE48D156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7F7A-8692-4840-B5A2-F968DE47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9CA-2A4C-44CF-B7C1-8978ABC4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32C4-2260-4343-8885-B9A37D15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7A92-ADAB-4950-B501-F72E6DF7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E4CEF-7ABD-4B85-87FD-AE79FFABFD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