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949273"/>
        <c:axId val="69914782"/>
      </c:barChart>
      <c:catAx>
        <c:axId val="32949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14782"/>
        <c:crosses val="autoZero"/>
        <c:auto val="1"/>
        <c:lblAlgn val="ctr"/>
        <c:lblOffset val="100"/>
        <c:noMultiLvlLbl val="0"/>
      </c:catAx>
      <c:valAx>
        <c:axId val="69914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49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71B-B747-4C8A-9D53-17012A2D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F296-5143-4AEB-BD3C-13AC65F9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89A-CAFC-4594-A88A-981A880A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FE7F-F153-4588-9CD4-B6175457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E7B8-8551-4245-BCCE-1712ED25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4C4-8534-4475-82BA-50AF096D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7FCC-4FB5-4278-AC3D-3E761C6D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262-0E33-4595-9B0D-877C4529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EB57-9694-4524-8175-6CABB173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694-B6E7-413D-9916-7ECA89A4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5DF5-916C-43A3-93FF-44455390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C3A-E3AC-4E60-852C-CEF2D03B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7FBC3-8EAC-4332-80EA-309C53A0F2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