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73595"/>
        <c:axId val="20526462"/>
      </c:barChart>
      <c:catAx>
        <c:axId val="84373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26462"/>
        <c:crosses val="autoZero"/>
        <c:auto val="1"/>
        <c:lblAlgn val="ctr"/>
        <c:lblOffset val="100"/>
        <c:noMultiLvlLbl val="0"/>
      </c:catAx>
      <c:valAx>
        <c:axId val="20526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73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9E8-A7C9-4924-B12B-6CFA7455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A705-E135-49DF-A029-9D335A6D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220-A941-4D35-87D6-89EE9272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5F6-316E-437B-B3A5-4B3DFF41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D30-7F99-4780-9AB7-2AA71EB5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CDD-9276-4366-B72A-56DA478C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DB0-8589-4207-B2A8-774CA695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743-D4D8-4CEC-B95E-534B070C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408-751F-4A6C-AA5A-C9460508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7EA-1F22-4231-92AF-ACD00D28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1B5-47F1-411E-8DA4-8F08E3CB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91A-5F05-42C4-A3AC-CCD14C0A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C2450-024F-4F80-BF82-04B3763233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