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8186691"/>
        <c:axId val="11830684"/>
      </c:barChart>
      <c:catAx>
        <c:axId val="1818669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830684"/>
        <c:crosses val="autoZero"/>
        <c:auto val="1"/>
        <c:lblAlgn val="ctr"/>
        <c:lblOffset val="100"/>
        <c:noMultiLvlLbl val="0"/>
      </c:catAx>
      <c:valAx>
        <c:axId val="1183068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18669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40368-9268-44BD-8066-0A22D9FD6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63928-EA43-47D9-92E9-092324CE8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C4211-5107-4BB0-B4F7-67E6240CF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3B0AB-34F8-4236-8C55-32243DC4C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0E745-0686-45B3-BCA9-8235121B8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4F7E1-4586-4BC0-A669-9FBC7E3D0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19905-5C40-4484-B61B-AFFA040A1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530A7-1795-4C38-9F0D-E916075E6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2FB06-F8ED-45C4-8DFD-184FF095F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E4D2D-6809-4956-9221-2C52D1677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EE8F8-1A31-41B5-8C0C-9DC5D354F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00D1A-9CC6-4AFF-B6F0-50DDCDBA6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F5BD08-0E6C-4B75-97D3-B0DE494AFD1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