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58971"/>
        <c:axId val="62224505"/>
      </c:barChart>
      <c:catAx>
        <c:axId val="72858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224505"/>
        <c:crosses val="autoZero"/>
        <c:auto val="1"/>
        <c:lblAlgn val="ctr"/>
        <c:lblOffset val="100"/>
        <c:noMultiLvlLbl val="0"/>
      </c:catAx>
      <c:valAx>
        <c:axId val="622245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58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DF0-52C8-425C-8C8D-EBBECF04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DF66-BEFE-49F4-9908-D514621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EBBA-A08B-4A32-AB12-CE5DCF434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421-4B61-4175-B4CC-054FACB8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0C3E-1C64-4168-87A7-8438D269A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237E-EEBC-4538-9831-CCC088D6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D3C0-2ACF-4962-B2EB-401F58E4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19D2-CD3F-4D34-B124-42E12E78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04F-DDA2-48FE-9186-6A425D2F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F1E4-B981-4452-8A4C-38236875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20BA-18F9-474F-A8E5-9382D86A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93F-AE3E-479A-A861-0CB687D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644F2-FA26-4DB3-BC3C-209381C84D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