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773338"/>
        <c:axId val="14481694"/>
      </c:barChart>
      <c:catAx>
        <c:axId val="327733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81694"/>
        <c:crosses val="autoZero"/>
        <c:auto val="1"/>
        <c:lblAlgn val="ctr"/>
        <c:lblOffset val="100"/>
        <c:noMultiLvlLbl val="0"/>
      </c:catAx>
      <c:valAx>
        <c:axId val="144816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733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057-1B22-45E6-B645-9E3EA0A4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2736-4407-42D9-963B-702970DF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95F0-0452-4405-A580-798B783B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95AD-021C-4D06-8121-5425DD44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AD5-5894-4A80-A1D4-2B1D79C1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822-2910-442C-92D7-498EBB82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D54-3320-4A19-B373-2F6412BC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0D15-E9F0-4CEF-8F53-7BC4B66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35B-1CAA-4135-9E9B-723A2183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231-8731-489E-9298-720A784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4A32-08BC-48B9-9779-2D74C242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02F-7439-4010-8F7D-A685BC9A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9604D1-19BF-40A8-9642-9AD92C2632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