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60376"/>
        <c:axId val="10120796"/>
      </c:barChart>
      <c:catAx>
        <c:axId val="31860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20796"/>
        <c:crosses val="autoZero"/>
        <c:auto val="1"/>
        <c:lblAlgn val="ctr"/>
        <c:lblOffset val="100"/>
        <c:noMultiLvlLbl val="0"/>
      </c:catAx>
      <c:valAx>
        <c:axId val="10120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60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ED8-4590-4778-AED2-61108CC4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BDB-194B-4688-8F09-6B77138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1CB-41C2-4D4F-BF24-5AE6B2E5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B0A-2136-434A-B117-0E6A99A9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F1B-3645-48F1-B528-6447112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BA2-5A65-4A60-9ECC-57825E03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0DF-81C5-4BFC-9A45-22EBB91E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D6E-DDF4-4B19-8AF7-0A627F4C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EA2-2400-4A3D-B2FF-93FEC5C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432-FA15-4FE6-A55F-F108E501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7DD-42E1-4DA9-8652-AD2D332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B9A-0E80-4310-ADA6-BD0FC7E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1A20D-9D64-4A05-875C-333ECCF80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