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6555"/>
        <c:axId val="31374368"/>
      </c:barChart>
      <c:catAx>
        <c:axId val="6326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4368"/>
        <c:crosses val="autoZero"/>
        <c:auto val="1"/>
        <c:lblAlgn val="ctr"/>
        <c:lblOffset val="100"/>
        <c:noMultiLvlLbl val="0"/>
      </c:catAx>
      <c:valAx>
        <c:axId val="31374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293-F040-430E-BD1D-8842DDFF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42E-F87C-43A5-80C0-00B80D6B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ABB-D363-4406-8C98-D5748381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343-8D5F-4456-B8E7-8C36229F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C7C-9B91-4437-9E4A-3A94EE0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A46-F8B4-42AA-8C96-1C1266F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004-8460-4259-BBB7-C2AEBD6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230-AB0C-41CB-81B8-7F1DA51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DF4-574F-428C-8002-319F8024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B64-B5C2-45AD-8F3C-E676B24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9AE-912B-4348-9596-371AE73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55F-D9C4-4709-8159-5B4E29A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C1A4-1B19-4A2B-80DB-1184A01DB8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