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533107"/>
        <c:axId val="66266854"/>
      </c:barChart>
      <c:catAx>
        <c:axId val="935331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66854"/>
        <c:crosses val="autoZero"/>
        <c:auto val="1"/>
        <c:lblAlgn val="ctr"/>
        <c:lblOffset val="100"/>
        <c:noMultiLvlLbl val="0"/>
      </c:catAx>
      <c:valAx>
        <c:axId val="662668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331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47E2-219C-45CA-B472-CB500ECC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A10B-F0F9-412C-AACB-E2AC33E3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8041-0B88-4091-A3E1-47663857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754F-762B-4297-AB09-99FE80549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95D1-D8BE-42A3-87F9-48C88FB0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E9BB-4F4B-4A20-8DF3-DDE50CB7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4215-DFF6-40DC-AADB-D08862A0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ADB1-B8EE-41B0-A2CD-F3A4100C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3282-6676-492A-B6B6-DBC41CD6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ED7B-784C-43BD-B190-24344894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1B04-E1C3-4EB2-B56E-A1767889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6AB7-4E1A-4663-89A2-07581D84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C3C83-35A4-42B0-9317-8E0A0E2001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